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133317"/>
        <c:axId val="56886890"/>
      </c:barChart>
      <c:catAx>
        <c:axId val="421333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86890"/>
        <c:crosses val="autoZero"/>
        <c:auto val="1"/>
        <c:lblAlgn val="ctr"/>
        <c:lblOffset val="100"/>
        <c:noMultiLvlLbl val="0"/>
      </c:catAx>
      <c:valAx>
        <c:axId val="568868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333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D259-1513-471D-98F6-2522F7F0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9C91-1B34-4417-8EA7-FA5E2EFE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CC93-2261-4B60-A521-6A475394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0270-9621-4941-8B7A-A8E913C8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3B60-A5D6-456C-A366-F1F326E7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9A05-7EFB-40F0-BF8B-8A22F177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FC76-D59B-4023-85EE-D4967D84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35DE-5636-45B2-8021-B61765DA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3CCD-57B4-4F77-9535-8693E72A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2252-C9FB-4CEF-9424-E3E3D21A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9A13-CD17-4DD5-87A2-A5D258E5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A383-DE99-45A3-B207-CA072BFD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AD652-875A-4BD2-9E79-1028B6AE52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