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959059"/>
        <c:axId val="79833340"/>
      </c:barChart>
      <c:catAx>
        <c:axId val="119590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33340"/>
        <c:crosses val="autoZero"/>
        <c:auto val="1"/>
        <c:lblAlgn val="ctr"/>
        <c:lblOffset val="100"/>
        <c:noMultiLvlLbl val="0"/>
      </c:catAx>
      <c:valAx>
        <c:axId val="798333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590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CF6F-EA64-4386-868B-37CF7A151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5DD4-5939-45C2-BB7B-E892E805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3373-2D22-40D1-A16A-21FC2B526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8E08-3A4A-49F0-B677-5B4D9CD4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2815-C590-4ED7-92BA-5F64422B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447C-ED3E-4F60-9CD5-3596C729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2254-F5AC-4E9B-8E86-173D3A2C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2923-74B6-4D9E-B71E-171B2BEA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88F9-B41E-416B-A106-E4B79D7C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0C08-C159-49C9-AFDD-E8137820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9172-E3EB-40CA-81C6-3CC6F210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1D96-C685-46EC-9D23-24812D93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5A041-4ECA-4FCF-A2F5-421537AF57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