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03932"/>
        <c:axId val="97065713"/>
      </c:barChart>
      <c:catAx>
        <c:axId val="66003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65713"/>
        <c:crosses val="autoZero"/>
        <c:auto val="1"/>
        <c:lblAlgn val="ctr"/>
        <c:lblOffset val="100"/>
        <c:noMultiLvlLbl val="0"/>
      </c:catAx>
      <c:valAx>
        <c:axId val="97065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03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2D7-2871-46C8-ACA9-D35012C0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767-2F4A-409A-A5BB-1BEA2D6B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19C-6AB0-43B3-AF59-A81710FB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221-9C0F-46F0-B0AA-85C67CE2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583-B839-4A68-9FD7-5DA829BD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E6A-4105-4E56-BD73-B52815BB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B26-0F3C-437E-834A-EFCED36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818-5CF0-489E-AA80-5CE4ADF2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756-0831-4192-8FEF-33BC457A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F43-89CE-49C2-993F-75D1518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627-8F01-4EAC-90AE-850B313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4C6-CF80-428A-B891-F9E5D05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3E460-C2DE-4BEC-ADDC-DED6580A0D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