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40373"/>
        <c:axId val="54310181"/>
      </c:barChart>
      <c:catAx>
        <c:axId val="9534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10181"/>
        <c:crosses val="autoZero"/>
        <c:auto val="1"/>
        <c:lblAlgn val="ctr"/>
        <c:lblOffset val="100"/>
        <c:noMultiLvlLbl val="0"/>
      </c:catAx>
      <c:valAx>
        <c:axId val="54310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4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E52-8866-42ED-AE97-7EA44DD2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CBC-5D2F-4E60-9542-12146AD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C22-E5AC-45B1-8E12-CAAC100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14D-B14D-4584-8B3F-8081E24B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ED3-6E48-44B8-BFDA-4DD5DA2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17C-8C6E-482B-8B02-1D3A062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2E6-50A5-4A09-8BD5-D27BF2E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0B2-5F33-48C5-96B9-74106C17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08E-DF52-439E-BEFF-E97E4648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4FA-4D7E-4F08-B77A-86614F9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408-A9A6-4CF5-94CE-E1CB145B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292-0789-400D-8EC6-4FA7CFD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87960-47FF-41B8-A015-431601279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