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4733491"/>
        <c:axId val="4246100"/>
      </c:barChart>
      <c:catAx>
        <c:axId val="5473349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46100"/>
        <c:crosses val="autoZero"/>
        <c:auto val="1"/>
        <c:lblAlgn val="ctr"/>
        <c:lblOffset val="100"/>
        <c:noMultiLvlLbl val="0"/>
      </c:catAx>
      <c:valAx>
        <c:axId val="424610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73349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75BA1-43EB-4BB4-B133-EFBF740F4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EAB52-6AFA-4982-BA97-4D8F14305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C59BD-2268-40A8-A743-3A1677C78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B385F-E309-41E5-86E2-04637E156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D11E2-87BF-42F6-821E-822C753E0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A9F9F-2BE7-41E3-997E-37E174179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BA315-9604-4BF5-8F67-3592DF692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8F056-DA49-4AC6-811D-1C88581C8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D69CD-67DA-4170-BAEB-5982FEE5A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9CF62-2554-4CC4-8A2F-64A0ED171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5EF6E-3AD6-481B-AABD-D96E755D5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0C26A-1742-42FF-B2EA-D0A75834D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491803-1713-447E-92AA-43DD50F0F39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