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42058"/>
        <c:axId val="63846965"/>
      </c:barChart>
      <c:catAx>
        <c:axId val="2994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6965"/>
        <c:crosses val="autoZero"/>
        <c:auto val="1"/>
        <c:lblAlgn val="ctr"/>
        <c:lblOffset val="100"/>
        <c:noMultiLvlLbl val="0"/>
      </c:catAx>
      <c:valAx>
        <c:axId val="63846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4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6DC-EF3C-49D9-928B-62872233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C8-EED8-4CAD-A6B5-E399453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C75-167F-40AE-82AC-23090245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D20-6B39-4396-ABA2-D096A8E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78F-620E-4DA9-A945-AA9A6888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16C-DF54-45D2-A900-2D96A4A5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E8D-0636-42A8-A033-F5FA34AF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439-EBC9-4643-B2EA-CC956CB3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4BD-D57C-4EA5-9470-0B10285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D67-11E9-4B85-812D-68DD3A0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6DD-6BA6-447D-BC82-08309D5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982-F746-43A1-B2FB-898DB2C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1E9FF-0A98-401A-88A6-DB3181D4A9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