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51312"/>
        <c:axId val="34431603"/>
      </c:barChart>
      <c:catAx>
        <c:axId val="76551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31603"/>
        <c:crosses val="autoZero"/>
        <c:auto val="1"/>
        <c:lblAlgn val="ctr"/>
        <c:lblOffset val="100"/>
        <c:noMultiLvlLbl val="0"/>
      </c:catAx>
      <c:valAx>
        <c:axId val="34431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51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85D-6AA8-43EF-B193-C4387403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DB5-5B42-4BDE-AC55-DA1CD97D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7D4-B192-4539-ADA7-320B8185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D7E-3E28-4D08-87A7-1089EF0F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DA2-5ADE-422E-B2AB-46D4C03E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567-CC20-4DCC-A63D-0F9AE048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DBF-FFBD-4889-9D4C-4677A843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A66-245E-4F67-965B-98C583BD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D4B-DF39-4227-BDDE-B188FC59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5C7-A965-410A-A1F7-35C4628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0F8-9E50-428E-A991-1010B6F1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DDB-18C1-4429-B547-3988ECB9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8BE92-31DC-4294-AFE4-D1AD018C29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