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93722"/>
        <c:axId val="77408082"/>
      </c:barChart>
      <c:catAx>
        <c:axId val="27893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08082"/>
        <c:crosses val="autoZero"/>
        <c:auto val="1"/>
        <c:lblAlgn val="ctr"/>
        <c:lblOffset val="100"/>
        <c:noMultiLvlLbl val="0"/>
      </c:catAx>
      <c:valAx>
        <c:axId val="77408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93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E665-6778-4F3D-B8A6-E32EBB6D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296-306F-4B73-BC98-4289B21B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05E-2BC9-440D-B5D8-C80BC606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C8D-1974-4C2E-9CED-B31CA2EF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414E-FBA6-47DF-BDED-10EBBA5E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61B-6E5C-482C-ABA8-B5AB29D7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8FB-6CA5-40B7-AF62-3AA025ED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48CC-6AF7-4594-97F9-EC64D265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5730-B74E-4F10-A255-8B39EE6A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B1F-CBDA-4648-9E5A-973D13FF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FA4-B040-4074-8353-44E87B8E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FAA-4279-43B0-93BF-E3926E5A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E8347-A2C5-4578-95D2-DF0EEDA8A1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