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5697"/>
        <c:axId val="70962197"/>
      </c:barChart>
      <c:catAx>
        <c:axId val="8825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62197"/>
        <c:crosses val="autoZero"/>
        <c:auto val="1"/>
        <c:lblAlgn val="ctr"/>
        <c:lblOffset val="100"/>
        <c:noMultiLvlLbl val="0"/>
      </c:catAx>
      <c:valAx>
        <c:axId val="70962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5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2F4-D97F-49AA-9AB0-ECF65E42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362-221F-4354-8EAA-3D185FD1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701-FE50-4662-A912-ADAC2966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D91-B464-497E-AB02-8116C908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A7D-8D95-40EA-9C42-AB6DFA61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77D-0B55-4233-B214-6B8F911E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4B2-8AC2-4240-9224-9D1234BE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002-DAF0-4EDC-BF7F-FF375462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A0D-7597-4286-ACEE-4D62234F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844-2B44-4FBB-907B-37659982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884-7BEF-42E9-AE08-63667FF0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C83-CC89-4F7B-88DC-03CE80B2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877F8-01D5-48CF-BFB1-3F5AA31608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