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41786"/>
        <c:axId val="62703800"/>
      </c:barChart>
      <c:catAx>
        <c:axId val="836417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03800"/>
        <c:crosses val="autoZero"/>
        <c:auto val="1"/>
        <c:lblAlgn val="ctr"/>
        <c:lblOffset val="100"/>
        <c:noMultiLvlLbl val="0"/>
      </c:catAx>
      <c:valAx>
        <c:axId val="627038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417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B4F-EEF6-47F3-9FC3-C42A2A19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0704-3D69-42D7-A50A-7CD62B29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E1A-3595-41AC-AFD9-D473FBC8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51A-1CE4-449C-958C-184D42B4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4666-1F90-4CDE-955A-34169DB7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8DF-7776-4D94-B489-7820BD87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499-643D-49D5-9A6F-87F0CD09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D1C-0B1B-4F7A-9274-BD73F52E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169-8684-4F82-ADF0-027C4C5D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40D-E1DC-4B45-B4F7-39B52720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0D7-4160-4CAD-9C62-72613C1B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648-F41E-4F6A-A57E-8D2458A3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C9F7D-B494-4D97-9363-1E82BE864F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